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767-1F13-4FF9-9474-9678B219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CFA-E98F-4E53-AEF5-4ED54CBB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3C8-7F7D-4E6A-A889-458E2C3D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72F-FC68-40DC-819E-C8866307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F9B-536D-48FA-BCCC-C2504689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286-7936-43AB-98F0-8AFB27E2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E2E-A492-4B93-926C-FF04C27C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700-B231-4DD9-A8B4-406091ED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2A5-D295-45FF-8D58-84E663FC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CED-E32B-4208-BB5C-3CD5C29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6D0-5457-43E3-9AC5-0760221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931-2444-4633-AA0F-EAC46AA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48FF-A3EB-430C-B546-FACD9FBB8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1 Linea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3x - 1/4y = 24 in 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x and y intercept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x - 8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of the line with a slope of -2 and goes through the piont (-4, 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point slope form through (4, 9) and (-2, 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lope-intercept form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 y) (3, 2) slope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400120" cy="2387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6553080" y="3276720"/>
            <a:ext cx="1524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steep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line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all….</a:t>
            </a:r>
            <a:br>
              <a:rPr sz="3600"/>
            </a:br>
            <a:br>
              <a:rPr sz="1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scribes the steepness of a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341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2880" y="2209680"/>
            <a:ext cx="30481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019560" y="2209680"/>
            <a:ext cx="106668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 of the line through the following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(4, 7)  N (-8, -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(6, 5) S (15,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alue of x for the line where m =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 5) (x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ce i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i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inear equation for this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us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ate of change and write an equation for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 of 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-Interce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and y-intercept of the following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2x -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y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becah babysits for a night, she charges a flat fee of $30 plus $4.85 per child.  How could this be expre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int-Sl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 of a line with the point (2, -7) and a slope m = -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419720" y="990720"/>
                <a:ext cx="3276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ndard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 + By =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x- and y-intercepts of: -3x + 6y = 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49:24Z</dcterms:created>
  <dc:creator>Sharon Fieldman</dc:creator>
  <dc:description/>
  <dc:language>en-US</dc:language>
  <cp:lastModifiedBy>Sharon Fieldman</cp:lastModifiedBy>
  <dcterms:modified xsi:type="dcterms:W3CDTF">2010-12-15T19:58:11Z</dcterms:modified>
  <cp:revision>12</cp:revision>
  <dc:subject/>
  <dc:title>Goal 4.01 Linear Functions</dc:title>
</cp:coreProperties>
</file>